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AFDE-1217-433B-8EA2-250E0048F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2AAE-8746-48BD-8C23-B27E2F1794E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953F-CF8D-4F83-870C-F1A52D9316A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B0BD-C768-41A8-ABCC-C0273832934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739B-D2AF-414C-95AC-F2A1F5CBCE9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857B-8C84-4C22-A8CC-3B3BABB534A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8D44-53E1-4678-82A4-76B71F99793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FFBF-0507-49F8-9FF1-9D9DC0BCC8A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682-D872-417C-B153-9A929CF1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0336-6FA1-41BC-8033-F25055C3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DC8A-4AD6-4EA5-8741-00288792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EFA9-2F48-45F4-8B45-077B6608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0941-76B3-40A6-9D15-5B4FD8AA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8BD7-62C2-41DE-AF55-09DD235B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806F-2CEF-4403-82C4-216F8881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C1C6-6562-49A6-86F4-82100AFD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D985-D42E-447B-B878-B67548F1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7E99-CE7B-46C0-B9DB-366CEC3E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470F-5F8F-4967-8F64-E320FB68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9713-D3F4-4CEA-BE8A-AC7EC578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2665-3CA9-4058-BA82-F06B5502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61E2-1C06-4E3B-93B4-3E107207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22E4-CA4B-4ECA-A8C1-8CB09B96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07A0-70F0-419D-AC7A-BF34D2C6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9061-4C7F-46B8-9129-0F4A9860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2C83-8F3A-4F08-B01F-A1DBC934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0275-1437-4BFD-A9E0-EEAA606D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58FA-0A52-4CBC-A26D-2BB8D845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4B6F-CE91-4647-9CB1-7F6D99B4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A355-EBF8-4001-A752-334B2C0B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E7ED-D802-45D0-ABDD-0A8F2C13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E9C-6B4C-442F-A92A-00D8D8A3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96E7-EEE0-4FB6-86F1-767F406789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6228-A02D-4F09-A039-3E65F79C6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E59C-EE45-4BBB-8B30-EC75B6A585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A353-0928-4AF6-9D1A-52B34532A45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r.wikipedia.org/wiki/Slika:Flag_of_Bosnia_and_Herzegovina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k-map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400" spc="-1" strike="noStrike">
                <a:solidFill>
                  <a:srgbClr val="000000"/>
                </a:solidFill>
                <a:latin typeface="Calibri"/>
              </a:rPr>
              <a:t>Bosnia and Herzegov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4" descr="Zastava Bosne i Hercegov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2000160"/>
            <a:ext cx="5572080" cy="31593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3727-18E8-4FD5-BD17-452C0D12A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909B-9306-43A8-8D96-918ADA9E796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igures</a:t>
            </a:r>
            <a:br>
              <a:rPr sz="1100"/>
            </a:br>
            <a:br>
              <a:rPr sz="1100"/>
            </a:b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(in mio KM)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Source: Banking Agencies of FBiH and R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14240" y="1714680"/>
          <a:ext cx="7858440" cy="3857400"/>
        </p:xfrm>
        <a:graphic>
          <a:graphicData uri="http://schemas.openxmlformats.org/drawingml/2006/table">
            <a:tbl>
              <a:tblPr/>
              <a:tblGrid>
                <a:gridCol w="642960"/>
                <a:gridCol w="1857600"/>
                <a:gridCol w="1285920"/>
                <a:gridCol w="1285560"/>
                <a:gridCol w="1214640"/>
                <a:gridCol w="857160"/>
                <a:gridCol w="714600"/>
              </a:tblGrid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1.12.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6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9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.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a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7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2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37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o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4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capi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75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expendi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t 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F Stand-by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nna initiative 6+3 (mother banks to keep exposure with B&amp;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mer protection legislation –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high expectation from banking sec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able results of first stress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PL increased, but still acceptable (2,8% Q2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of income with increased interest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– reduced and more 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512C-B31D-42AC-97A8-16DBD45E75E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esent challang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5712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ounded in 2004, fully indepe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irst Association on stat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ly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self funded by member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ll registered banks in full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rganized troug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Board of Dire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xecutive Secret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9 Commissions for different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OUR MISSION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improve and develope close cooperation among th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member bank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establish partnership with stat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institutions, supervisors and legislator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Public relations and media communica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Edu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catio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o  cooperate with similar institutions in the country and abr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0EDF-1255-4662-8061-E6D00742B5D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 Association of Bosnia and Herzegovina</a:t>
            </a:r>
            <a:br>
              <a:rPr sz="25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ofile</a:t>
            </a:r>
            <a:br>
              <a:rPr sz="25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fully dedicated to the spirit of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membership with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support and know-how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of information and expertise in legislation, good banking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8424-255A-42B3-8E4F-21515F0599A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s for your confi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5601-CA1B-48F3-B663-4BCD25CAF2E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24_05_2006_clip_image002"/>
          <p:cNvPicPr/>
          <p:nvPr/>
        </p:nvPicPr>
        <p:blipFill>
          <a:blip r:embed="rId1"/>
          <a:stretch/>
        </p:blipFill>
        <p:spPr>
          <a:xfrm>
            <a:off x="2928960" y="4214880"/>
            <a:ext cx="29718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70c0"/>
                </a:solidFill>
                <a:latin typeface="Calibri"/>
              </a:rPr>
              <a:t>UBBiH   </a:t>
            </a:r>
            <a:r>
              <a:rPr b="1" lang="en-US" sz="11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ŽENJE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GA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УДРУЖЕЊЕ БАНАКА БОСНE И ХЕРЦЕГОВИН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ANKS ASSOCIATION OF BOSNIA AND HERZEGOVINA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Branilaca Sarajeva 20/III, 71000 Sarajevo, Bosna i Hercegovina, Tel: (387 33) 714 630, Fax: (387 33) 714 631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www.ubbih.ba</a:t>
            </a:r>
            <a:br>
              <a:rPr sz="2400"/>
            </a:br>
            <a:br>
              <a:rPr sz="2400"/>
            </a:br>
            <a:br>
              <a:rPr sz="1600"/>
            </a:br>
            <a:br>
              <a:rPr sz="16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ECONOMY AND BANKING SECTOR  IN  BOSNIA AND HERZEGOVINA 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r. Dino Osmanbegović, Presid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240" y="5143320"/>
            <a:ext cx="69152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Rectangle 4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39D8-0B82-4C69-A4DF-70D9D3BEFCF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43160" y="5929200"/>
            <a:ext cx="4071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MMA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.  B&amp;H in bri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Macroeconomic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jor Ris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Banking 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gur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esent Challeng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fi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5B6B-2076-4C99-9F1D-F4ACFE8AE14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35652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hr-HR" sz="1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br>
              <a:rPr sz="29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tion: 3,8 mio (est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: Saraje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: 51.197 km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cy (€1 = KM1.9558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 stat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n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entities+1 distr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DF8F-F5AA-4CAF-8ABD-9A34B06DEFE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ap of Bosnia and Herzegov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928800"/>
            <a:ext cx="5473440" cy="482436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5"/>
          <p:cNvSpPr/>
          <p:nvPr/>
        </p:nvSpPr>
        <p:spPr>
          <a:xfrm>
            <a:off x="3124080" y="6356520"/>
            <a:ext cx="416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al Bank of B&amp;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urrency Board Arran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andatory  Reser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nking Super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 banking agencies (still separate but coordinat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latively conservative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ministration for indirect taxation (VAT and custo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ntralized collection with entity level distribu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orporate income, personal) on entity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4DFA-4A9D-4C72-8F9F-07F814604A7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bs-BA" sz="2800" spc="-1" strike="noStrike">
                <a:solidFill>
                  <a:srgbClr val="000000"/>
                </a:solidFill>
                <a:latin typeface="Calibri"/>
              </a:rPr>
              <a:t>I  B&amp;H in brief</a:t>
            </a:r>
            <a:br>
              <a:rPr sz="1400"/>
            </a:b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Key  Macroeconomic Data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bs-BA" sz="1200" spc="-1" strike="noStrike">
                <a:solidFill>
                  <a:srgbClr val="000000"/>
                </a:solidFill>
                <a:latin typeface="Calibri"/>
              </a:rPr>
              <a:t>Data Source: Thomson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</a:rPr>
              <a:t>Reuter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6000840"/>
            <a:ext cx="4906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928800"/>
          <a:ext cx="8072640" cy="5475240"/>
        </p:xfrm>
        <a:graphic>
          <a:graphicData uri="http://schemas.openxmlformats.org/drawingml/2006/table">
            <a:tbl>
              <a:tblPr/>
              <a:tblGrid>
                <a:gridCol w="2639880"/>
                <a:gridCol w="981360"/>
                <a:gridCol w="981000"/>
                <a:gridCol w="1131840"/>
                <a:gridCol w="1149480"/>
                <a:gridCol w="1189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9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10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ominal GDP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 GDP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usehold consumption (real, 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dustrial output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umer prices (avg.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nemployment rate  (avg,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neral budge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urrent Accoun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 debt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fficial FX reserves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0992-72A7-4A60-A3CF-F29704E6745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2357280" y="6492960"/>
            <a:ext cx="41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&amp;H in br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jor Macroeconomic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DP growth-present negative with forecasted very low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dget deficit-still over IMF Stand-by Agrm. Tar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Current Account Deficit-despite of significant reduction of both export and imp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portfolio volume-reduced for 2%, compared to 27% growth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FX risk and controlled inflation, due to the Currency 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872D-B1D1-40B8-A8BA-7C766FF2ECD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857160"/>
            <a:ext cx="8429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100" spc="-1" strike="noStrike">
                <a:solidFill>
                  <a:srgbClr val="000000"/>
                </a:solidFill>
                <a:latin typeface="Calibri"/>
              </a:rPr>
              <a:t>Source: Central Bank B&amp;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2D60-642F-4C19-8138-A104A16A8AE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85840" y="2000160"/>
          <a:ext cx="8358120" cy="3071880"/>
        </p:xfrm>
        <a:graphic>
          <a:graphicData uri="http://schemas.openxmlformats.org/drawingml/2006/table">
            <a:tbl>
              <a:tblPr/>
              <a:tblGrid>
                <a:gridCol w="2431800"/>
                <a:gridCol w="739800"/>
                <a:gridCol w="741600"/>
                <a:gridCol w="741240"/>
                <a:gridCol w="739800"/>
                <a:gridCol w="741240"/>
                <a:gridCol w="741600"/>
                <a:gridCol w="739800"/>
                <a:gridCol w="741240"/>
              </a:tblGrid>
              <a:tr h="285120">
                <a:tc rowSpan="2"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</a:tr>
              <a:tr h="3193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ment fun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sing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urance and reinsurance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rocredit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Footer Placeholder 5"/>
          <p:cNvSpPr/>
          <p:nvPr/>
        </p:nvSpPr>
        <p:spPr>
          <a:xfrm>
            <a:off x="3000240" y="628668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% of Financial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1 Registered Ba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deration BiH, 19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ublic of Srpska 10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Banks under Administ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0% foreign ow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75% of total assets with 4 key play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% of GDP penet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evant share of retail loan portfol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capital adequacy ratio (CAR) – over 16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 profitabili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877E-DA6B-4B4F-9077-72FB1C345F6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58:07Z</dcterms:created>
  <dc:creator>samir</dc:creator>
  <dc:description/>
  <dc:language>en-US</dc:language>
  <cp:lastModifiedBy>samir</cp:lastModifiedBy>
  <dcterms:modified xsi:type="dcterms:W3CDTF">2009-12-03T13:34:02Z</dcterms:modified>
  <cp:revision>32</cp:revision>
  <dc:subject/>
  <dc:title>Bosnia and Herzegovina </dc:title>
</cp:coreProperties>
</file>